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2D4-9F96-4509-AF19-26CEC8B6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84CD-CCA2-421A-ACF1-FF70BC8F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A1B-2812-406E-8752-BD47AEBD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31B-0E58-4061-A5BC-4FEB53B9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D1C-046B-4D93-BB52-D948886B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766-BB67-4E18-892D-6BE51EBA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876-397B-49F3-ADF5-68E66B09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A0E9-7C2C-4A35-A9AE-B7F7F924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B15-2F54-4860-B1DC-FC97BFF2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1433-FF51-450D-9979-F7F491D1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BB1D-617E-4639-ABD1-D6772D91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0D5-C239-4517-99CC-766A676E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064A-1029-4C85-89EB-26A802988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71800" y="228600"/>
            <a:ext cx="1828800" cy="15570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Moro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doni MT"/>
              </a:rPr>
              <a:t>A country on the northwest corner of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www.worldatlas.com/webimage/countrys/africa/maafrica.gif"/>
          <p:cNvPicPr/>
          <p:nvPr/>
        </p:nvPicPr>
        <p:blipFill>
          <a:blip r:embed="rId1"/>
          <a:srcRect l="7500" t="18240" r="7500" b="6555"/>
          <a:stretch/>
        </p:blipFill>
        <p:spPr>
          <a:xfrm>
            <a:off x="4722840" y="0"/>
            <a:ext cx="266868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Map of Morocco"/>
          <p:cNvPicPr/>
          <p:nvPr/>
        </p:nvPicPr>
        <p:blipFill>
          <a:blip r:embed="rId2"/>
          <a:srcRect l="4996" t="2279" r="4996" b="11112"/>
          <a:stretch/>
        </p:blipFill>
        <p:spPr>
          <a:xfrm>
            <a:off x="533520" y="0"/>
            <a:ext cx="2438280" cy="257328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1981080" y="2590920"/>
            <a:ext cx="48769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onstitutional Mon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al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Rab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lam 99%,  Christian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ron ore, fish, 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STREET LIFE SCENE - Marrakech, Marrakech"/>
          <p:cNvPicPr/>
          <p:nvPr/>
        </p:nvPicPr>
        <p:blipFill>
          <a:blip r:embed="rId3"/>
          <a:stretch/>
        </p:blipFill>
        <p:spPr>
          <a:xfrm>
            <a:off x="-6480" y="3956040"/>
            <a:ext cx="2146320" cy="2146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nake Charmers</a:t>
            </a:r>
            <a:r>
              <a:rPr b="0" lang="en-US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6477120" y="57913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que in Casablan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http://t3.gstatic.com/images?q=tbn:ANd9GcQ3MZNIxzGhEMOBpQXwwvW5XZ34xrE5uAdnLYdA6jCbuyPTyIIA"/>
          <p:cNvPicPr/>
          <p:nvPr/>
        </p:nvPicPr>
        <p:blipFill>
          <a:blip r:embed="rId4"/>
          <a:stretch/>
        </p:blipFill>
        <p:spPr>
          <a:xfrm>
            <a:off x="5608800" y="3273480"/>
            <a:ext cx="3541680" cy="2487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5"/>
          <p:cNvSpPr/>
          <p:nvPr/>
        </p:nvSpPr>
        <p:spPr>
          <a:xfrm>
            <a:off x="3124080" y="60958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ag of Moroc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Flag of Morocco"/>
          <p:cNvPicPr/>
          <p:nvPr/>
        </p:nvPicPr>
        <p:blipFill>
          <a:blip r:embed="rId5"/>
          <a:stretch/>
        </p:blipFill>
        <p:spPr>
          <a:xfrm>
            <a:off x="2819520" y="4572000"/>
            <a:ext cx="2427120" cy="1495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http://www.free-press-release.com/uploads/news/2011/03/29/1301432320_img3.jpg"/>
          <p:cNvPicPr/>
          <p:nvPr/>
        </p:nvPicPr>
        <p:blipFill>
          <a:blip r:embed="rId6"/>
          <a:stretch/>
        </p:blipFill>
        <p:spPr>
          <a:xfrm>
            <a:off x="7321680" y="-6480"/>
            <a:ext cx="1828800" cy="27561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7"/>
          <p:cNvSpPr/>
          <p:nvPr/>
        </p:nvSpPr>
        <p:spPr>
          <a:xfrm>
            <a:off x="7391520" y="27432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roccan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 rot="20290200">
            <a:off x="2975760" y="1835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Arial Black"/>
              </a:rPr>
              <a:t>Sampl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C:\Documents and Settings\islpt137\My Documents\My Pictures\dw turkey.jpg"/>
          <p:cNvPicPr/>
          <p:nvPr/>
        </p:nvPicPr>
        <p:blipFill>
          <a:blip r:embed="rId1"/>
          <a:stretch/>
        </p:blipFill>
        <p:spPr>
          <a:xfrm>
            <a:off x="0" y="2133720"/>
            <a:ext cx="2133720" cy="1641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Color Map of Turkey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habermonitor.com/img/devletler-hukukk-uzmani-prof-dr-hasan-koni-tu.jpg"/>
          <p:cNvPicPr/>
          <p:nvPr/>
        </p:nvPicPr>
        <p:blipFill>
          <a:blip r:embed="rId3"/>
          <a:stretch/>
        </p:blipFill>
        <p:spPr>
          <a:xfrm>
            <a:off x="0" y="3962520"/>
            <a:ext cx="2476440" cy="1885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Map of Turkey"/>
          <p:cNvPicPr/>
          <p:nvPr/>
        </p:nvPicPr>
        <p:blipFill>
          <a:blip r:embed="rId4"/>
          <a:stretch/>
        </p:blipFill>
        <p:spPr>
          <a:xfrm>
            <a:off x="0" y="0"/>
            <a:ext cx="2343240" cy="149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In Affiliation with AllPosters.com"/>
          <p:cNvPicPr/>
          <p:nvPr/>
        </p:nvPicPr>
        <p:blipFill>
          <a:blip r:embed="rId5"/>
          <a:stretch/>
        </p:blipFill>
        <p:spPr>
          <a:xfrm>
            <a:off x="7315200" y="2362320"/>
            <a:ext cx="1828800" cy="183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In Affiliation with AllPosters.com"/>
          <p:cNvPicPr/>
          <p:nvPr/>
        </p:nvPicPr>
        <p:blipFill>
          <a:blip r:embed="rId6"/>
          <a:stretch/>
        </p:blipFill>
        <p:spPr>
          <a:xfrm>
            <a:off x="6858000" y="4191120"/>
            <a:ext cx="2286000" cy="1485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3124080" y="6858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380880" y="380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Map of Tu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5867280" y="457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p of re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2362320" y="2362320"/>
            <a:ext cx="4267080" cy="256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: Republican parliamentary democ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Capital: Ank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Language: Turk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Religions: Is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Literacy Rate: 87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Natural Resources: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04920" y="50292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ag of Tur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28600" y="2971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Picture description #</a:t>
            </a: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6629400" y="28195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Turkey stat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7086600" y="51055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Turkey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0" y="5943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 Demi"/>
              </a:rPr>
              <a:t>DARREN WILLI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590920" y="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URKEY the state next to the Caspi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04T20:23:48Z</dcterms:modified>
  <cp:revision>16</cp:revision>
  <dc:subject/>
  <dc:title>Slide 1</dc:title>
</cp:coreProperties>
</file>